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DB2-C7CA-45B1-8288-0BA867DD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546-6B24-4CD5-989C-9CDB79CB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27D-0D5F-46C1-B6A4-C00DA9A2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7AC-B639-4FD6-9441-CB53B4E5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D64-58FD-4787-AE32-0DAF805B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B74-E620-45FA-8E8B-8634D28E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4A9-DA19-4F3D-A41C-01AC2E5A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F01-3033-4030-A9E0-CA1F5B40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182-42EA-47C4-B3ED-D057EDF3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D3B-F6F0-4078-8ABE-DCCD61EB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877-4129-4ECB-A17C-DF74504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A67-7247-4941-B5A5-06170E11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A5A5-1B12-4E8F-8F7C-1E3831D25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hyperlink" Target="file:///tmp/home/.config/libreoffice/4/user/gallery/Breaking%20Glass" TargetMode="External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- pos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2030400"/>
          <a:ext cx="7772400" cy="48276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rning targ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te bias &amp; distor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ing conven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038480" y="2666880"/>
            <a:ext cx="990720" cy="38124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99" h="21600">
                <a:moveTo>
                  <a:pt x="0" y="0"/>
                </a:moveTo>
                <a:lnTo>
                  <a:pt x="56099" y="0"/>
                </a:lnTo>
                <a:lnTo>
                  <a:pt x="56099" y="21600"/>
                </a:lnTo>
                <a:lnTo>
                  <a:pt x="0" y="21600"/>
                </a:lnTo>
                <a:close/>
              </a:path>
              <a:path fill="lightenLess" w="56099" h="21600">
                <a:moveTo>
                  <a:pt x="0" y="0"/>
                </a:moveTo>
                <a:lnTo>
                  <a:pt x="56099" y="0"/>
                </a:lnTo>
                <a:lnTo>
                  <a:pt x="54699" y="1400"/>
                </a:lnTo>
                <a:lnTo>
                  <a:pt x="1400" y="1400"/>
                </a:lnTo>
                <a:close/>
              </a:path>
              <a:path fill="darken" w="56099" h="21600">
                <a:moveTo>
                  <a:pt x="56099" y="0"/>
                </a:moveTo>
                <a:lnTo>
                  <a:pt x="56099" y="21600"/>
                </a:lnTo>
                <a:lnTo>
                  <a:pt x="54699" y="20200"/>
                </a:lnTo>
                <a:lnTo>
                  <a:pt x="54699" y="1400"/>
                </a:lnTo>
                <a:close/>
              </a:path>
              <a:path fill="darkenLess" w="56099" h="21600">
                <a:moveTo>
                  <a:pt x="56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9" y="20200"/>
                </a:lnTo>
                <a:close/>
              </a:path>
              <a:path fill="lighten" w="56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32767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f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"/>
          </p:cNvPr>
          <p:cNvSpPr/>
          <p:nvPr/>
        </p:nvSpPr>
        <p:spPr>
          <a:xfrm>
            <a:off x="4038480" y="3809880"/>
            <a:ext cx="990720" cy="38124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99" h="21600">
                <a:moveTo>
                  <a:pt x="0" y="0"/>
                </a:moveTo>
                <a:lnTo>
                  <a:pt x="56099" y="0"/>
                </a:lnTo>
                <a:lnTo>
                  <a:pt x="56099" y="21600"/>
                </a:lnTo>
                <a:lnTo>
                  <a:pt x="0" y="21600"/>
                </a:lnTo>
                <a:close/>
              </a:path>
              <a:path fill="lightenLess" w="56099" h="21600">
                <a:moveTo>
                  <a:pt x="0" y="0"/>
                </a:moveTo>
                <a:lnTo>
                  <a:pt x="56099" y="0"/>
                </a:lnTo>
                <a:lnTo>
                  <a:pt x="54699" y="1400"/>
                </a:lnTo>
                <a:lnTo>
                  <a:pt x="1400" y="1400"/>
                </a:lnTo>
                <a:close/>
              </a:path>
              <a:path fill="darken" w="56099" h="21600">
                <a:moveTo>
                  <a:pt x="56099" y="0"/>
                </a:moveTo>
                <a:lnTo>
                  <a:pt x="56099" y="21600"/>
                </a:lnTo>
                <a:lnTo>
                  <a:pt x="54699" y="20200"/>
                </a:lnTo>
                <a:lnTo>
                  <a:pt x="54699" y="1400"/>
                </a:lnTo>
                <a:close/>
              </a:path>
              <a:path fill="darkenLess" w="56099" h="21600">
                <a:moveTo>
                  <a:pt x="56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9" y="20200"/>
                </a:lnTo>
                <a:close/>
              </a:path>
              <a:path fill="lighten" w="56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4b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4197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5f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5029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e9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4038480" y="57150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81680" y="259092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781680" y="320040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781680" y="380988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781680" y="441972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781680" y="495288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781680" y="5638680"/>
            <a:ext cx="5223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520" y="1812960"/>
            <a:ext cx="835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ver the course of the unit provides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hat is needed to adjust my teaching methods.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assessment will help me decide whether I need to alter any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essons to fit my students’ particular needs….  The summ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 assessment will help me to evaluate both my instruc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nd myself as a teac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’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your persp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7160" y="1812960"/>
            <a:ext cx="835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ly, the assessment during my unit will show that I have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itive impact on student learning which is required of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.  I should be able to illustrate progress toward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hieving the learning targets by comparing the resul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assessment with those of the post-assessment.  These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rtant to successful completion of the MiT program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so important documentation that I will be able to pro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hiring proce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’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your persp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n external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, as appropria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/>
          </p:cNvPr>
          <p:cNvSpPr/>
          <p:nvPr/>
        </p:nvSpPr>
        <p:spPr>
          <a:xfrm>
            <a:off x="533520" y="54864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81080"/>
            <a:ext cx="7772400" cy="1828800"/>
          </a:xfrm>
          <a:prstGeom prst="rect">
            <a:avLst/>
          </a:prstGeom>
          <a:solidFill>
            <a:srgbClr val="e4b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240" y="2041560"/>
            <a:ext cx="763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targets are stated clearly and concisely and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ly categorized (fact, concept, skill, disposition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LRs are cited when appropriate.  (Reference the EALR/GLE right after the associated targe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4382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b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1680" y="1736640"/>
            <a:ext cx="846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know the fundamental trigonometric ratio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1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do not have to list all fa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understand the applications of trig in a wide var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occupations and fields of study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5.3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be able to solve problems involving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ight triangle trigonometry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2.1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begin to enjoy the problem solving proce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b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targets clea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y the targets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associated EALRs with the targets when appropria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609480" y="55627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81080"/>
            <a:ext cx="8077320" cy="2133720"/>
          </a:xfrm>
          <a:prstGeom prst="rect">
            <a:avLst/>
          </a:prstGeom>
          <a:solidFill>
            <a:srgbClr val="b5f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6120" y="2041560"/>
            <a:ext cx="795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and contents of the pre- and post-unit 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re presented and justified.  Clear connecti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to the nature of the learning targets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a Ch.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re presented in this section or are includ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endi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4382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160" y="1736640"/>
            <a:ext cx="8338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test and post-test for this unit are selected respon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nswer, and problem-solving (extended response) tes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assessment is very effective for fact targets (p.98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, selected response can be an effective way for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monstrate mastery of the knowledge required to perfor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kills of the unit (p. 14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test includes questions that are very similar to thos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t-test.  However, there are fewer questions on the post-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y are slightly simpler.  The post-test contains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in order to sample a greater portion of the student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.  Both tests and their scoring guides can be found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and contents of the pre and post-assessment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81080"/>
            <a:ext cx="77724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a sufficiently thorough (yet concise!) description of the unit so as to allow an informed reader to make correct inferences about the unit’s context and int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2349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1240" y="1736640"/>
            <a:ext cx="800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chosen to apply selected response and short essay as 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instruments for several reasons which includ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of my learning targets are focused on the mast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facts and concepts.  Therefore I am applying 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that are designed to measure these types of tar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ccuratel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and contents of the pre and post-assessment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nd jus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connections are made to the nature of the learning targe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/>
          </p:cNvPr>
          <p:cNvSpPr/>
          <p:nvPr/>
        </p:nvSpPr>
        <p:spPr>
          <a:xfrm>
            <a:off x="533520" y="55627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4" h="21600">
                <a:moveTo>
                  <a:pt x="11632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lnTo>
                  <a:pt x="18595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3" y="17989"/>
                </a:lnTo>
                <a:lnTo>
                  <a:pt x="6323" y="10800"/>
                </a:lnTo>
                <a:lnTo>
                  <a:pt x="4669" y="10800"/>
                </a:lnTo>
                <a:close/>
              </a:path>
              <a:path fill="darkenLess" w="23264" h="21600">
                <a:moveTo>
                  <a:pt x="14208" y="6448"/>
                </a:move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close/>
              </a:path>
              <a:path fill="darkenLess" w="23264" h="21600">
                <a:moveTo>
                  <a:pt x="10709" y="14299"/>
                </a:moveTo>
                <a:lnTo>
                  <a:pt x="12555" y="14299"/>
                </a:lnTo>
                <a:lnTo>
                  <a:pt x="12555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3" y="10800"/>
                </a:lnTo>
                <a:lnTo>
                  <a:pt x="6323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981080"/>
            <a:ext cx="8077320" cy="1143000"/>
          </a:xfrm>
          <a:prstGeom prst="rect">
            <a:avLst/>
          </a:prstGeom>
          <a:solidFill>
            <a:srgbClr val="fe9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6840" y="204156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ear, well reasoned description of possible sources of 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is-measurement is offe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349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20" y="1654200"/>
            <a:ext cx="83768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any assessment instrument, there are bias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ions that must be considered as possible sourc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easurement.  Here are some that will be important in my un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per Method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the creator of the assessment instruments, 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o ask myself if I properly matched the method of assess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my learning target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larity of Test Question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The items on the assessments m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be written clearly or well focused, thus leading the students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wer incorrectly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est Form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 Both tests use standard format items (multiple choic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rt answer, short essay).  Students who excel at other type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ms may not do as well as they coul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tc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urces of mis-measurement are identified and explain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00" y="1654200"/>
            <a:ext cx="8306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iggest concern with using these 2 tools focuses on th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telligence which they favor.  Students who are better verba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istic learners may have an advantage in communicating 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dia.  Other students with other types of intelligences m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able to demonstrate their understanding as we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concern lies in my selection of the selected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.  How do I know that the questions I’ve chosen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ve of the body of knowledge I have presented?  P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questions may not appropriately emphasize the fac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s, and skill targets I have se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urces of mis-measurement are identified and explain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/>
          </p:cNvPr>
          <p:cNvSpPr/>
          <p:nvPr/>
        </p:nvSpPr>
        <p:spPr>
          <a:xfrm>
            <a:off x="380880" y="55627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5" h="21600">
                <a:moveTo>
                  <a:pt x="13117" y="3837"/>
                </a:moveTo>
                <a:lnTo>
                  <a:pt x="15694" y="6448"/>
                </a:lnTo>
                <a:lnTo>
                  <a:pt x="15694" y="4707"/>
                </a:lnTo>
                <a:lnTo>
                  <a:pt x="17469" y="4707"/>
                </a:lnTo>
                <a:lnTo>
                  <a:pt x="17469" y="8224"/>
                </a:lnTo>
                <a:lnTo>
                  <a:pt x="20080" y="10800"/>
                </a:lnTo>
                <a:lnTo>
                  <a:pt x="18427" y="10800"/>
                </a:lnTo>
                <a:lnTo>
                  <a:pt x="18427" y="17989"/>
                </a:lnTo>
                <a:lnTo>
                  <a:pt x="7808" y="17989"/>
                </a:lnTo>
                <a:lnTo>
                  <a:pt x="7808" y="10800"/>
                </a:lnTo>
                <a:lnTo>
                  <a:pt x="6154" y="10800"/>
                </a:lnTo>
                <a:close/>
              </a:path>
              <a:path fill="darkenLess" w="26235" h="21600">
                <a:moveTo>
                  <a:pt x="15694" y="6448"/>
                </a:moveTo>
                <a:lnTo>
                  <a:pt x="15694" y="4707"/>
                </a:lnTo>
                <a:lnTo>
                  <a:pt x="17469" y="4707"/>
                </a:lnTo>
                <a:lnTo>
                  <a:pt x="17469" y="8224"/>
                </a:lnTo>
                <a:close/>
              </a:path>
              <a:path fill="darkenLess" w="26235" h="21600">
                <a:moveTo>
                  <a:pt x="12195" y="14299"/>
                </a:moveTo>
                <a:lnTo>
                  <a:pt x="14040" y="14299"/>
                </a:lnTo>
                <a:lnTo>
                  <a:pt x="14040" y="17989"/>
                </a:lnTo>
                <a:lnTo>
                  <a:pt x="18427" y="17989"/>
                </a:lnTo>
                <a:lnTo>
                  <a:pt x="18427" y="10800"/>
                </a:lnTo>
                <a:lnTo>
                  <a:pt x="7808" y="10800"/>
                </a:lnTo>
                <a:lnTo>
                  <a:pt x="7808" y="17989"/>
                </a:lnTo>
                <a:lnTo>
                  <a:pt x="1219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4200" y="1812960"/>
            <a:ext cx="797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 is a 9th grade World Geography course.  The Ch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comes at the end of the East Asia segment and is the l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unit the students complete before the end of school. 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will run approximately four weeks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4560" y="1812960"/>
            <a:ext cx="85230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ltimate goal for the unit is to bring to a close the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of the class by closely examining the notion of the ‘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’ and how it has changed throughout the eras.  I w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as the American Dream during Willy Loman’s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 our notion of the American Dream has endurd through the yea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spects have changed over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have they 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go wrong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nt students to be able to compare their feelings to tho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in other historical periods we have been reading about…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nt (guiding objec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solidFill>
            <a:srgbClr val="f6f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e assessment is clearly presented and discussed in light of the information presented in Chapter 2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2463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7080" y="1812960"/>
            <a:ext cx="825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y students, the assessments are their opport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how me what they have learned and where they need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unit.  The pre-assessment gives them a chanc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 their prior knowledge while the post-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them summative information which allows them to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own succe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’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rmation Technology</cp:lastModifiedBy>
  <dcterms:modified xsi:type="dcterms:W3CDTF">2008-02-26T18:03:13Z</dcterms:modified>
  <cp:revision>2</cp:revision>
  <dc:subject/>
  <dc:title>The pre- post assessment</dc:title>
</cp:coreProperties>
</file>